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ove%20Spell.wav" ContentType="audio/x-wav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8B6-D56C-4EFA-A450-2444A1D3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0C9-6310-4ED0-B4ED-E83C716C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536-63BA-4B3A-B472-4894970F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987-149C-4194-A1A7-6A9D107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12A-CE90-4A08-903B-E7A45A79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D9C-7967-4EDB-8ADD-B6E6F2E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A03-33F4-4B15-968B-DAE53264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836-AFDC-478D-9EC6-78E3AA97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C1F-5DF2-4817-A5A3-A864AC82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B26-10FE-4558-AD38-8221112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B70-8018-424A-B124-2C6FFDE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045-C5AE-428A-B72A-FEBE588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D9E-8FDC-4EE8-BA04-FFFE8A3F4F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Spell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3048120"/>
            <a:ext cx="71294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HUMILDAD...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ransition spd="slow">
    <p:wedge/>
    <p:sndAc>
      <p:stSnd>
        <p:snd r:embed="rId1" name="Love%20Spe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0"/>
            <a:ext cx="3733560" cy="84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aminaba con mi padre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ando él se detuvo en una curva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y después de un pequeño silencio me preguntó: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 Además del cantar de los pájaros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 ¿escuchas alguna cosa más?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Agudicé mis oídos y algunos segundos después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e respondí: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Estoy escuchando el ruido de una carret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0"/>
            <a:ext cx="39625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Eso es, dijo mi padre. Es una carreta vacía.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gunté a mi padre: 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¿Cómo sabes que es una carreta vacía si aún no la vemos? 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tonces mi padre respondió: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 Es muy fácil saber cuándo una carreta está vacía, por causa del ruido.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ánto más vacía la carreta, mayor es el ruido que hac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457200"/>
            <a:ext cx="4648320" cy="78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Me convertí en adulto y hasta hoy, cuando veo a una persona hablando demasiado, interrumpiendo la conversación de todos, siendo inoportuna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sumiendo de lo que tiene, sintiéndose prepotente y haciendo de menos a la gente, tengo la impresión de oír la voz de mi padre diciendo: "</a:t>
            </a:r>
            <a:r>
              <a:rPr b="1" i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anto más vacía la carreta, mayor es el ruido que hac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515880"/>
            <a:ext cx="42670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humildad consiste en callar nuestras virtudes y permitirle a los demás descubrirlas.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Y recuerden que existen personas tan pobres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que lo único que tienen es dinero.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"Nadie está más vacío, que aquel que esta lleno del Yo mismo. "Seamos lluvia serena y mansa</a:t>
            </a:r>
            <a:r>
              <a:rPr b="0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que llega profundamente a las raíces, en silencio: nutr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44640"/>
            <a:ext cx="8351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 todo cariño para mis amig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14:19Z</dcterms:created>
  <dc:creator>maguilar</dc:creator>
  <dc:description/>
  <dc:language>en-US</dc:language>
  <cp:lastModifiedBy>jaime</cp:lastModifiedBy>
  <dcterms:modified xsi:type="dcterms:W3CDTF">2009-02-07T02:04:29Z</dcterms:modified>
  <cp:revision>1</cp:revision>
  <dc:subject/>
  <dc:title>Slide 1</dc:title>
</cp:coreProperties>
</file>